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5C9-CDB0-4C9D-8FC0-4E78474F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28A-FA29-4E7A-991F-1403C354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329-2DBD-4A28-988B-A23165AF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125-C2EA-4BAA-AC2F-768E1072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4EA-A518-464F-B7F9-20B3585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2D0-34AB-4C1C-B248-9A47C5AB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F56-E15F-4978-A5B5-7A64ADF8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8AB-2337-4C26-8579-A433DA83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34F-2FB4-43D8-906C-7101308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71E-2378-4435-8601-5FA1A69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E50-D9EB-455E-AEEC-06B0832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5FA-84AB-4563-B76D-7566345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585-175F-4BE0-9528-73C47F1E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ityat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132000" y="333360"/>
            <a:ext cx="3168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ston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morning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eads it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a s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tone that s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evening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es to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ging lights Above its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928800"/>
            <a:ext cx="314316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o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iam Jay Sm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ilver-scaled dragon with jaws flaming 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ts at my elbow and toasts my bre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nd him fat slices, and then, one by on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hands them back when he sees they are d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2428920" y="142920"/>
            <a:ext cx="5657760" cy="38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partment House - Gerald Raf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 filing cabinet of human l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Where people swarm like bees in tunnelled hive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Each to his own cell in the covered comb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dentical and cramped -- we call it h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324000" y="260280"/>
            <a:ext cx="367668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ream D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ston Hughes (1902-19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a dream defer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it dry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raisin in the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fester like a sore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hen r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it stink like rotten me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crust and sugar over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syrupy swe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be it just s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a heavy 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does it explo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826920" y="1628640"/>
            <a:ext cx="806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estic Qua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McIner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alls of the house are paper thin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ying awake in the pit of the n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hears his parents arguing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lights a candle stealthily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rld's two halves are closing 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ounding shell; the voices flicker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ives that violate the night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lies imprisoned inside a whale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s blind eyes trace its arching ribs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ark beats down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where, offstage, ripples of distant thunder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indow frames momentary bleached photograph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d as a moon landscape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blows the candle out and wait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leep or the consummation of rai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he tin roof, the tides of drowning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539640" y="0"/>
            <a:ext cx="446112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ludes - T.S. Eli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winter evening settles down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ith smell of steaks in passageways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 o.clock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burnt-out ends of smoky days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now a gusty shower wrap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grimy scrap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withered leaves about your feet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newspapers from vacant lots;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howers beat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n broken blinds and chimney-pots,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at the corner of the street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lonely cab-horse steams and stamps.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then the lighting of the lamp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203920" y="189000"/>
            <a:ext cx="675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rning comes to consciousnes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faint stale smells of be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 sawdust-trampled stree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 its muddy feet that pres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arly coffee-stands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other masquerad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ime resume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thinks of all the hand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re raising dingy shad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thousand furnished room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9:56:18Z</dcterms:created>
  <dc:creator>P Yager</dc:creator>
  <dc:description/>
  <dc:language>en-US</dc:language>
  <cp:lastModifiedBy>user</cp:lastModifiedBy>
  <dcterms:modified xsi:type="dcterms:W3CDTF">2009-11-25T11:29:18Z</dcterms:modified>
  <cp:revision>14</cp:revision>
  <dc:subject/>
  <dc:title>Slide 1</dc:title>
</cp:coreProperties>
</file>